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F81B-159B-4B3A-B1AD-41B5A7192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46E-4044-4365-B338-A23A0891F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3DE1-1280-43F8-A460-DD426D4F6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17E6-9DCC-4111-99E3-A051EF07E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6F0C-69A2-4522-96AA-4DF1A45B2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152-DFE9-4434-A352-A5A19A1D3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6F1A-922D-4AE1-80D9-89AC463C9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28F-C415-4685-B8B9-7DAD73164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597A-AA83-45E6-9CFC-B247D0300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0A9-DBD7-402C-9138-402BF198A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92A-1618-4F77-B368-1DBDF0F4E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D25-85BD-40BB-BD49-90DE6D7BC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9FBD-8F71-4CE2-BC2C-7A38CE4EB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297-E513-4A32-824A-4FDED79C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7B9-EE84-4850-8AFB-3843E1CD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82C-A7CC-4C3D-92A0-7E985F1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5BE-9B99-48F7-9F9F-18971CD5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A1E-3949-40B7-9564-654722F9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86F8-4BF6-4BB1-9E9B-9293F423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DD4D-02B9-4E3A-878D-96F8058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5AA-14F8-44B9-9BA9-93B30C6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DEAD-3794-4CAE-9A47-CD2D731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C4A-4C68-47DF-B956-9CD9A51A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0FF-DA6A-45E4-80D5-0130C3C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790-3B2C-43B8-9737-CB196BA0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72DD-A995-43D4-9300-DBA9300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0F3-7FF1-4179-8DAC-13DC5FB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CB3-0AC7-4E8D-BFD2-8B20180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56A5-1A67-4614-91A0-D7466CFF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A55-B242-488A-A012-4401D27D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E46F2-11F4-45B0-B5C2-6785028B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CF679-0F1A-475B-B6B8-0FE7940D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FEE09-9CE3-4E57-8907-F7ADC5A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60FF7-D9D3-4489-A9D3-7362867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A3065-9E89-4567-BDB7-E25C2EAE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6CA-7DEF-4634-B48B-0DC7882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FA921-84BA-4CAF-835E-CED7735D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F128F-AAE2-4205-B725-ED0BFA7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1CE74-F9BD-4FAC-AE50-46E80E6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FFFC6-FD38-443E-B4A9-B3B080B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E7051-5D3C-40F6-9055-DE515EA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B9265-33BF-4681-A9BA-636E963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033D9-3447-48F5-BAB4-EC39264B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8AD98-A75D-4A3D-BB85-2DD6E407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38291-77FE-4631-AF23-2D9AC457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77CAF-EC43-474C-9320-52B07AD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2CE-3801-4C74-929B-D1B9554C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B9DCB-5026-41BB-B333-E60E4C6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5C009-4552-4260-A8CC-1AEC0B65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781ED-B0F2-4904-A4FE-5C4144E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21FDC-756E-4513-8813-8BD33B4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B489F-C8CF-41DD-94BF-EB898FA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ADC06-C2A1-4EE4-ACED-6E04442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CEF0B-FD26-45B9-BFCC-1592A54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2F108-4720-4038-8E86-75835FB4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FC872-ACAB-45C3-B6E6-D6630C30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DD397-D549-4214-8CFC-3A9BD33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146-3ED3-470F-86D6-CD0238F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E0BEF-B240-4006-92A4-85B77862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41498-0DE2-4D58-843C-91FC8B0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D7C51-6BC1-49DC-A53C-F185921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B3EF3-C1AB-4C52-9FA4-729890F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AD36A-5AFC-4A9C-8893-0B98876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F3C06-EDD3-4D71-86C3-2CD41C9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C9206-E4CB-4DB4-930E-F4F88AC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BC594-28CA-40CD-AF9F-8B117D2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31024-4C1B-48E6-AA7B-767780F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65494-0AF8-4CFF-B7FF-536A60E5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C00-841E-42E5-9F96-2D76516C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0E483-DD52-42F4-966A-3E8618DB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FC7A-2363-4C1C-A15E-265E5FD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9A107-3C49-4B2C-93BE-9E6113E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69DC-F4B5-40EE-BD44-3B2490E2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4D3A4-B7DF-44C9-8B34-49D3016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0587-D42F-4965-9176-E4401A1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23C0-8E6B-4C69-B833-8B1A9796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0E89-2728-485F-A461-CD57405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F68F-2E0E-43D0-B02A-22ADD50E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CF8E-1492-4556-85EF-B390702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8B5-9FEB-41E1-B24D-6262592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99AB7-A493-416D-85AD-3DFA82B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B407-DAD2-4EDC-9E0D-371EA234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F261-18FB-4712-8A6B-BEB2147B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341A7-6EB6-400D-90FE-DB5A6EE7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8D7F2-8873-4227-A9F7-ED684185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4319C-1B54-4FFE-BAE4-5C76304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72EF2-4857-4FC5-A593-7633852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1B092-08EC-4250-AB97-51AD50D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ED4D4-607A-4EA0-90B0-BEEB4123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32B08-010D-4187-9639-2E7AEBC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C33-4998-4D70-B417-7FC9605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C91B4-2CCA-4142-9298-8D9AEC6C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2607D-D6D3-4890-8131-8C4E950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2576F-FD18-4DC6-B24E-8C8765B3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A9886-D612-48FA-9B21-1D4799BE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76114-696C-44FE-8F0B-2B150415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3613D-31E1-45E4-BF8E-3285092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79DD-67FF-47BA-864C-D497B85C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00B0E-5871-4CEC-9A97-1D185722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21E1-C3E5-43E5-95B0-4008F56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3493-E23F-4759-AB64-3ECDD2BE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218-B824-46BC-844D-966DAA0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20D79-8938-4880-A01D-985CB0F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8DC4-3529-4E94-B9BE-67DDD03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A598B-8FA6-41F0-BD2F-52DB7BE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9AA19-F352-408A-A3AC-7A2A8D0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ACF6-8464-4176-B362-D0754F2B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381EB-E3AF-4014-9326-BCE6A247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A1192-34FE-4C25-BD3C-BCEE184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E26-2AB7-4042-B1B1-E372625F91E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D5E-77CD-40DF-BF54-B9F647BA98D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1B3-83F8-4F58-8609-CB98567BC95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2498-A4E6-4B60-9094-85CC18514A3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4529-E094-4803-B82F-681BAB6C0F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1C8-31A4-48E4-B471-5ED08BD9147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5D5-8F0B-4F65-8AE7-B340128CDDD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369-ECD1-490B-8B75-16A6061E5E6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bram, S. (2009, February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Measuring libraries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Stephen's Lighthouse [Blog]. Retrieved July 2, 2009 from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stephenslighthouse.sirsidynix.com/archives/2009/02/measuring_libra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9, January). SirsiDynix Adds Chilifresh Engine. Library Journal, 2009 (issue 1). Retrieved June 30, 2009, from http://www.libraryjournal.com/article/CA6625166.html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October 15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Director's station for usage stats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 Library Journal. Retrieved July 2, 2009, from http://www.libraryjournal.com/article/CA6602837.html?industryid=4712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. (2007, June 23). 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SirsiDynix introduces SirsiDynix Symphony as new integrated library system.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Retrieved July 2, 2009, from Library Technology Guides: http://www.librarytechnology.org/ltg-displayarticle.pl?RC=12619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irsiDynix (2008, December 2). SirsiDynix StaffWeb brochure. Retrieved July 6, 2009, from www.sirsidynix.com/Resources/Pdfs/Solutions/Products/StaffWeb.pdf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rcRect l="15235" t="5689" r="0" b="9516"/>
          <a:stretch/>
        </p:blipFill>
        <p:spPr>
          <a:xfrm>
            <a:off x="304920" y="2362320"/>
            <a:ext cx="430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lisa brennan</cp:lastModifiedBy>
  <dcterms:modified xsi:type="dcterms:W3CDTF">2009-07-08T21:46:23Z</dcterms:modified>
  <cp:revision>13</cp:revision>
  <dc:subject/>
  <dc:title>Slide 1</dc:title>
</cp:coreProperties>
</file>